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D06-6DDB-4C5D-917A-E62715DB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240-AD73-41A8-B32F-448079F3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54E-12B6-40BA-BC82-13B281A9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F8D-5A88-4F4F-A035-C3BC1467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71F-3D7F-4B6D-9BD0-40EC9DDE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AE2-7148-47A3-A685-32BF2424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0FE-55F0-474D-BE41-0195F0A9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F8AC-3594-4F5D-A7E0-10140737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405-36F5-46EB-9804-9B5B1938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E37-A3E7-4CE6-AC09-4FC8316A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893-FEFA-450F-B55C-ECD0F366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9F1-59E0-4026-94A2-BD2B0162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4520-FC79-4004-8B8B-56627FCAB019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712800"/>
            <a:ext cx="7223400" cy="51451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3224160" y="-79200"/>
            <a:ext cx="2378160" cy="615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071880" y="41580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آژانس ها و پیک موتوری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786280"/>
            <a:ext cx="78584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8:00:55Z</dcterms:modified>
  <cp:revision>42</cp:revision>
  <dc:subject/>
  <dc:title>Slide 1</dc:title>
</cp:coreProperties>
</file>