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E02-B18A-42F5-BE22-71F16E1F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44B-12F1-44B1-95E0-13B5090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9B7-5918-48A2-9031-A1364A3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D5C-347E-450A-9067-BB68E80B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A16-8152-4322-96DD-E071FAF6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6EB-AA0C-41DC-AB5E-DE10DF75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016-DFD6-4383-9CE3-8975D66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223-5C01-4109-95EB-107C20A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0F9-0A19-4956-9C55-7F5EF99A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07A-E42F-4CC4-B9FC-7FBBE1A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E41-D77E-486F-8274-CFAB0F2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16D-1A57-4296-BB77-14421B7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5A39-2945-45E2-9094-01AFB8EA90A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139760"/>
            <a:ext cx="7223400" cy="42735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84440" y="353880"/>
            <a:ext cx="3938760" cy="579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071880" y="8571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عمیرگاه ها و خدمات پس از فرو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42916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8:34Z</dcterms:modified>
  <cp:revision>40</cp:revision>
  <dc:subject/>
  <dc:title>Slide 1</dc:title>
</cp:coreProperties>
</file>