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AB1D-4C38-4BD7-8450-EC772960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C1BF-2EA2-473A-B050-74D7E133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2F6-62DC-4CAE-B970-2AF734B7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3EC3-230A-47C0-A51E-C3C46EC3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FFB6-5040-431E-995D-F1258292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2705-4C7F-488D-9987-C7DFD678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68A5-8D1B-4E1F-A693-7788C02C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9668-765E-4122-AE24-72FEE4B1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975-A7E1-46E7-BDF3-48F07AC5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4264-204C-4EBD-8514-239D8011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8BBF-2776-4B60-B5DD-2075A7D8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8DB6-F7CB-4143-9036-1A146B2F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A529-7D55-4DB9-9727-F4D70B7EC803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1000080"/>
            <a:ext cx="7223400" cy="426708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792520" y="49320"/>
            <a:ext cx="3022560" cy="61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286080" y="630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باشگاه های ورزش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71280" y="5357880"/>
            <a:ext cx="78584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7:56:13Z</dcterms:modified>
  <cp:revision>38</cp:revision>
  <dc:subject/>
  <dc:title>Slide 1</dc:title>
</cp:coreProperties>
</file>