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6A9-E4B3-47CF-8752-1581A41A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BE0-287C-4981-8AFD-33841272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250-3F90-4501-B50C-8A05B3F9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54A-EACE-4D1B-BD1C-F9769EAD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912-DC84-4E3A-927C-75B7D30C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440-FA29-4F24-9E13-544F3098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35DA-33F2-4932-996F-C9CA89D5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226-AD56-40BF-892F-AB4FDBAE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867-C14A-4F87-9594-16806923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527-F828-4D8A-A5CE-8AC73881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422-EAAC-4ED6-AE23-DF6C6DFF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8BD-0527-4AB0-923C-5AE7B203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05E9-35FB-40C4-9F54-A0599F2708B9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871640"/>
            <a:ext cx="7223400" cy="29862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724120" y="566640"/>
            <a:ext cx="3110040" cy="6717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571920" y="1201680"/>
            <a:ext cx="15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اصن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072040"/>
            <a:ext cx="78584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54:46Z</dcterms:modified>
  <cp:revision>38</cp:revision>
  <dc:subject/>
  <dc:title>Slide 1</dc:title>
</cp:coreProperties>
</file>