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56B-0F9D-488B-A573-7A505A86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6CC-F741-4DB9-9159-A036C83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FB0-8F1B-4335-88BE-A9C11491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E8D-A9B4-465C-AAC2-E58167C9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07C-3A81-470F-ACD8-CE2EBF4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15B-759D-4B85-B468-3B33D0B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A62-853E-4378-98F6-80ED31A9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63D-14FA-49B9-9904-4642542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E785-0B7A-4283-B425-0740A81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BDA-A260-4C44-B532-FCEF1A9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A47-B12D-4774-B89E-68E401E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00B-FA1A-44DE-A10C-9091CBC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625-DDC0-4AB4-BEFE-791D8B50CDA0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novinrayane.com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585720"/>
            <a:ext cx="7436160" cy="541836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262080" y="-146160"/>
            <a:ext cx="2127240" cy="197496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566040" y="-365040"/>
            <a:ext cx="2790720" cy="218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743200" y="-128520"/>
            <a:ext cx="350532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500280" y="28584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رستور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214200" y="6072120"/>
            <a:ext cx="7858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B Homa"/>
                <a:hlinkClick r:id="rId6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7:53:28Z</dcterms:modified>
  <cp:revision>55</cp:revision>
  <dc:subject/>
  <dc:title>Slide 1</dc:title>
</cp:coreProperties>
</file>