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FB0E-A67C-43F9-9943-FA07D5088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4887-C759-49DE-A9BF-E3982BA8B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6D44-336B-41B5-B93F-7654C1CDF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8638-8F0D-407B-9CF0-7F553C868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8043-F967-4037-9566-3925470DC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B33C-03E6-4DB9-B61F-FC7D4BE7A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DCAF-57A8-4E47-AEE1-844080253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788B-E9BA-462E-861E-29A4969F1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E541-3DFD-4D80-8A1A-6996362BB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3CDA-DDB0-48EA-B6CF-ED14C8FA2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C8ED-D812-4DB1-B298-BB3F505FD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8E31-7445-40DD-A188-D3BDB1976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20D51-DA93-4116-A60D-36EBC76DAB5C}" type="slidenum">
              <a:rPr b="0" lang="fa-I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1" descr="ar3.jpg"/>
          <p:cNvPicPr/>
          <p:nvPr/>
        </p:nvPicPr>
        <p:blipFill>
          <a:blip r:embed="rId1"/>
          <a:stretch/>
        </p:blipFill>
        <p:spPr>
          <a:xfrm>
            <a:off x="1000080" y="357120"/>
            <a:ext cx="6350040" cy="6350040"/>
          </a:xfrm>
          <a:prstGeom prst="rect">
            <a:avLst/>
          </a:prstGeom>
          <a:ln w="0">
            <a:noFill/>
          </a:ln>
        </p:spPr>
      </p:pic>
      <p:pic>
        <p:nvPicPr>
          <p:cNvPr id="42" name="Table 4" descr=""/>
          <p:cNvPicPr/>
          <p:nvPr/>
        </p:nvPicPr>
        <p:blipFill>
          <a:blip r:embed="rId2"/>
          <a:stretch/>
        </p:blipFill>
        <p:spPr>
          <a:xfrm>
            <a:off x="853920" y="785880"/>
            <a:ext cx="7223400" cy="4591080"/>
          </a:xfrm>
          <a:prstGeom prst="rect">
            <a:avLst/>
          </a:prstGeom>
          <a:ln w="0">
            <a:noFill/>
          </a:ln>
        </p:spPr>
      </p:pic>
      <p:pic>
        <p:nvPicPr>
          <p:cNvPr id="43" name="TextBox 5" descr=""/>
          <p:cNvPicPr/>
          <p:nvPr/>
        </p:nvPicPr>
        <p:blipFill>
          <a:blip r:embed="rId3"/>
          <a:stretch/>
        </p:blipFill>
        <p:spPr>
          <a:xfrm>
            <a:off x="-152280" y="-165240"/>
            <a:ext cx="2322360" cy="2152800"/>
          </a:xfrm>
          <a:prstGeom prst="rect">
            <a:avLst/>
          </a:prstGeom>
          <a:ln w="0">
            <a:noFill/>
          </a:ln>
        </p:spPr>
      </p:pic>
      <p:pic>
        <p:nvPicPr>
          <p:cNvPr id="44" name="TextBox 6" descr=""/>
          <p:cNvPicPr/>
          <p:nvPr/>
        </p:nvPicPr>
        <p:blipFill>
          <a:blip r:embed="rId4"/>
          <a:stretch/>
        </p:blipFill>
        <p:spPr>
          <a:xfrm>
            <a:off x="6456240" y="-165240"/>
            <a:ext cx="2853000" cy="2275200"/>
          </a:xfrm>
          <a:prstGeom prst="rect">
            <a:avLst/>
          </a:prstGeom>
          <a:ln w="0">
            <a:noFill/>
          </a:ln>
        </p:spPr>
      </p:pic>
      <p:pic>
        <p:nvPicPr>
          <p:cNvPr id="45" name="TextBox 8" descr=""/>
          <p:cNvPicPr/>
          <p:nvPr/>
        </p:nvPicPr>
        <p:blipFill>
          <a:blip r:embed="rId5"/>
          <a:stretch/>
        </p:blipFill>
        <p:spPr>
          <a:xfrm>
            <a:off x="2859120" y="-60480"/>
            <a:ext cx="3255840" cy="614520"/>
          </a:xfrm>
          <a:prstGeom prst="rect">
            <a:avLst/>
          </a:prstGeom>
          <a:ln w="0">
            <a:noFill/>
          </a:ln>
        </p:spPr>
      </p:pic>
      <p:sp>
        <p:nvSpPr>
          <p:cNvPr id="46" name="TextBox 9"/>
          <p:cNvSpPr/>
          <p:nvPr/>
        </p:nvSpPr>
        <p:spPr>
          <a:xfrm>
            <a:off x="3429000" y="500040"/>
            <a:ext cx="192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17375e"/>
                </a:solidFill>
                <a:latin typeface="Calibri"/>
                <a:cs typeface="B Farnaz"/>
              </a:rPr>
              <a:t>طراحی شده ویژه پخش کنندگا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ooter Placeholder 10"/>
          <p:cNvSpPr/>
          <p:nvPr/>
        </p:nvSpPr>
        <p:spPr>
          <a:xfrm>
            <a:off x="71280" y="5357880"/>
            <a:ext cx="785844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Times New Roman"/>
                <a:cs typeface="B Homa"/>
              </a:rPr>
              <a:t>آدرس : خراسان رضوی، مشهدمقدس ،بلوارشهیددستغیب ،شهیددستغیب 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ea typeface="B Homa"/>
              </a:rPr>
              <a:t>18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ea typeface="B Homa"/>
              </a:rPr>
              <a:t> ،سمت چپ ،سرنبش سه راه ،پلاک 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ea typeface="B Homa"/>
              </a:rPr>
              <a:t>97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cs typeface="B Homa"/>
              </a:rPr>
              <a:t>،طبقه او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Times New Roman"/>
                <a:cs typeface="B Homa"/>
              </a:rPr>
              <a:t>تلفن :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B Homa"/>
              </a:rPr>
              <a:t>0511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B Homa"/>
              </a:rPr>
              <a:t>-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B Homa"/>
              </a:rPr>
              <a:t>7630374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B Homa"/>
              </a:rPr>
              <a:t>  </a:t>
            </a:r>
            <a:r>
              <a:rPr b="0" lang="fa-IR" sz="900" spc="-1" strike="noStrike">
                <a:solidFill>
                  <a:srgbClr val="000000"/>
                </a:solidFill>
                <a:latin typeface="Times New Roman"/>
                <a:ea typeface="B Homa"/>
              </a:rPr>
              <a:t>        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cs typeface="B Homa"/>
              </a:rPr>
              <a:t>مدیریت :  </a:t>
            </a:r>
            <a:r>
              <a:rPr b="0" lang="fa-IR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155178075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و </a:t>
            </a:r>
            <a:r>
              <a:rPr b="0" lang="fa-IR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38566038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Times New Roman"/>
                <a:cs typeface="B Homa"/>
              </a:rPr>
              <a:t>ایمیل :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B Homa"/>
              </a:rPr>
              <a:t>novin_narmafzar75@yahoo.com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ea typeface="B Homa"/>
              </a:rPr>
              <a:t>                        آدرس اینترنتی :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B Homa"/>
              </a:rPr>
              <a:t>www.novinrayan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B Homa"/>
              </a:rPr>
              <a:t>                                                سفارشات نرم افزار و طراحی سایت پذیرفته می شو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0T08:50:56Z</dcterms:created>
  <dc:creator>a</dc:creator>
  <dc:description/>
  <dc:language>en-US</dc:language>
  <cp:lastModifiedBy>novinrayane</cp:lastModifiedBy>
  <dcterms:modified xsi:type="dcterms:W3CDTF">2013-11-11T07:48:06Z</dcterms:modified>
  <cp:revision>39</cp:revision>
  <dc:subject/>
  <dc:title>Slide 1</dc:title>
</cp:coreProperties>
</file>