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5A6A-67AE-4519-8F89-EF556FE22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41A7-D0DD-4B9F-9086-B934C5B31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4A4F-F286-4C97-9DE7-72B3AF675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7911-6C32-4ED1-BE41-FC6A3C4B0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6B70-D7BC-4069-9D8E-FB0031D3C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A785-5870-481D-ACEA-E356E1E5A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8A48-B6E5-4BA8-8320-392183552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08A9-5D64-4E11-A0CD-D56834CF2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62CC-15F2-4768-AD76-AE676FB37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E743-B18E-46D4-8E74-A6383F0E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BB19-8F17-4128-8F49-D9D41AB8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8434-5D51-4CAA-A4C9-AB96896F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CD08D-6756-4838-8E91-AC53F645A570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ar3.jpg"/>
          <p:cNvPicPr/>
          <p:nvPr/>
        </p:nvPicPr>
        <p:blipFill>
          <a:blip r:embed="rId1"/>
          <a:stretch/>
        </p:blipFill>
        <p:spPr>
          <a:xfrm>
            <a:off x="1143000" y="357120"/>
            <a:ext cx="6350040" cy="6350040"/>
          </a:xfrm>
          <a:prstGeom prst="rect">
            <a:avLst/>
          </a:prstGeom>
          <a:ln w="0">
            <a:noFill/>
          </a:ln>
        </p:spPr>
      </p:pic>
      <p:pic>
        <p:nvPicPr>
          <p:cNvPr id="42" name="Table 4" descr=""/>
          <p:cNvPicPr/>
          <p:nvPr/>
        </p:nvPicPr>
        <p:blipFill>
          <a:blip r:embed="rId2"/>
          <a:stretch/>
        </p:blipFill>
        <p:spPr>
          <a:xfrm>
            <a:off x="853920" y="1517760"/>
            <a:ext cx="7223400" cy="3627360"/>
          </a:xfrm>
          <a:prstGeom prst="rect">
            <a:avLst/>
          </a:prstGeom>
          <a:ln w="0">
            <a:noFill/>
          </a:ln>
        </p:spPr>
      </p:pic>
      <p:pic>
        <p:nvPicPr>
          <p:cNvPr id="43" name="TextBox 5" descr=""/>
          <p:cNvPicPr/>
          <p:nvPr/>
        </p:nvPicPr>
        <p:blipFill>
          <a:blip r:embed="rId3"/>
          <a:stretch/>
        </p:blipFill>
        <p:spPr>
          <a:xfrm>
            <a:off x="-152280" y="-165240"/>
            <a:ext cx="2322360" cy="2152800"/>
          </a:xfrm>
          <a:prstGeom prst="rect">
            <a:avLst/>
          </a:prstGeom>
          <a:ln w="0">
            <a:noFill/>
          </a:ln>
        </p:spPr>
      </p:pic>
      <p:pic>
        <p:nvPicPr>
          <p:cNvPr id="44" name="TextBox 6" descr=""/>
          <p:cNvPicPr/>
          <p:nvPr/>
        </p:nvPicPr>
        <p:blipFill>
          <a:blip r:embed="rId4"/>
          <a:stretch/>
        </p:blipFill>
        <p:spPr>
          <a:xfrm>
            <a:off x="6456240" y="-165240"/>
            <a:ext cx="2853000" cy="227520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8" descr=""/>
          <p:cNvPicPr/>
          <p:nvPr/>
        </p:nvPicPr>
        <p:blipFill>
          <a:blip r:embed="rId5"/>
          <a:stretch/>
        </p:blipFill>
        <p:spPr>
          <a:xfrm>
            <a:off x="2457360" y="347760"/>
            <a:ext cx="3791160" cy="615960"/>
          </a:xfrm>
          <a:prstGeom prst="rect">
            <a:avLst/>
          </a:prstGeom>
          <a:ln w="0">
            <a:noFill/>
          </a:ln>
        </p:spPr>
      </p:pic>
      <p:sp>
        <p:nvSpPr>
          <p:cNvPr id="46" name="TextBox 9"/>
          <p:cNvSpPr/>
          <p:nvPr/>
        </p:nvSpPr>
        <p:spPr>
          <a:xfrm>
            <a:off x="3286080" y="987480"/>
            <a:ext cx="21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17375e"/>
                </a:solidFill>
                <a:latin typeface="Calibri"/>
                <a:cs typeface="B Farnaz"/>
              </a:rPr>
              <a:t>طراحی شده ویژه صنف مواد غذای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ooter Placeholder 10"/>
          <p:cNvSpPr/>
          <p:nvPr/>
        </p:nvSpPr>
        <p:spPr>
          <a:xfrm>
            <a:off x="71280" y="5214960"/>
            <a:ext cx="785844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آدرس : خراسان رضوی، مشهدمقدس ،بلوارشهیددستغیب ،شهیددستغیب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18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 ،سمت چپ ،سرنبش سه راه ،پلاک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97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،طبقه او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تلفن :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051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7630374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  </a:t>
            </a:r>
            <a:r>
              <a:rPr b="0" lang="fa-IR" sz="9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مدیریت :  </a:t>
            </a:r>
            <a:r>
              <a:rPr b="0" lang="fa-I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155178075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 </a:t>
            </a:r>
            <a:r>
              <a:rPr b="0" lang="fa-I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38566038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ایمیل 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B Homa"/>
              </a:rPr>
              <a:t>novin_narmafzar75@yahoo.com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                آدرس اینترنتی 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B Homa"/>
              </a:rPr>
              <a:t>www.novinrayan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                                        سفارشات نرم افزار و طراحی سایت پذیرفته می ش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0T08:50:56Z</dcterms:created>
  <dc:creator>a</dc:creator>
  <dc:description/>
  <dc:language>en-US</dc:language>
  <cp:lastModifiedBy>novinrayane</cp:lastModifiedBy>
  <dcterms:modified xsi:type="dcterms:W3CDTF">2013-11-11T07:18:45Z</dcterms:modified>
  <cp:revision>39</cp:revision>
  <dc:subject/>
  <dc:title>Slide 1</dc:title>
</cp:coreProperties>
</file>