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520-2EF9-4E6B-BB32-8CDA35AA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584-15E6-4970-985C-D528D47B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1E9-1CE0-46C6-A450-D221974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133-01B0-4D5A-A82A-032DB4D7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EB2-5850-4A11-A151-9BC49C14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091-028F-46FD-B603-2D741B7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DC3-9A4D-4F75-BF42-DC76AF75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1EA-70E7-458D-A12E-BFA6B8E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188-3395-4EAE-95A5-3A26EEE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893-35E2-4FA1-9B52-641F3E3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B47-CA3D-453A-ACE3-F40799B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3E0-53EF-4BA1-9AD1-2113E9D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449-99C0-4936-AF27-281C2A83300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981000"/>
            <a:ext cx="7436160" cy="48103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11040"/>
            <a:ext cx="285912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840040" y="-79200"/>
            <a:ext cx="3274920" cy="615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643200" y="558720"/>
            <a:ext cx="17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مط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14200" y="5786280"/>
            <a:ext cx="7858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17:09Z</dcterms:modified>
  <cp:revision>47</cp:revision>
  <dc:subject/>
  <dc:title>Slide 1</dc:title>
</cp:coreProperties>
</file>