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B9A-DBDA-4462-B311-3F29BE8D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3C8-6624-4155-8698-B926FEA8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CBB-B8C9-4B7A-ADEA-69B49D70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267-29BF-4F4C-9658-873C4A8A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3D1-0F48-4C02-9CDD-9C5D08B5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EA5-2661-4949-AEA8-BBEA1215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A9B-42A7-4612-A9F1-376458A2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40C-4D77-4458-9A79-A502F4D6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1CC-CAB3-426C-B7FB-73A67569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37B-DEBA-4535-B3C7-BF3F4786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D53-DEBA-4E6C-BC00-28B351BA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D88-DD6E-454F-86CE-73DF9477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7F8B-8784-47BE-9D5F-02FD85F59B0F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517760"/>
            <a:ext cx="7223400" cy="36273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468520" y="347760"/>
            <a:ext cx="391320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429000" y="9288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کتاب فروشی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2071800" y="5143680"/>
            <a:ext cx="5857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03:33Z</dcterms:modified>
  <cp:revision>39</cp:revision>
  <dc:subject/>
  <dc:title>Slide 1</dc:title>
</cp:coreProperties>
</file>