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F02-287D-423F-825D-08B6BF28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6B3-835E-4D48-9B8D-0252508C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250-558D-474E-AEEA-F06B0D86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456-0D32-4D1A-9188-2BEC1856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4AF-F13C-47B7-9FEC-D3478F6D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951-ABAA-44DB-9277-1CAEEA51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85E-1224-4371-A01F-057AE78E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FE7-6DE3-4343-9F12-76E301D0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349-4AB8-400F-98A5-7426199A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40E-6BD3-45D1-9865-4828E90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8A5-F06A-4283-9E35-DEFCFF23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2A1-798F-4F15-9B0A-0D4234EB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D2AF-6BEF-492D-9E40-76BB3EAD9607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474920"/>
            <a:ext cx="7436160" cy="35305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365040" y="-237960"/>
            <a:ext cx="232236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566040" y="-311040"/>
            <a:ext cx="2859120" cy="22730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468520" y="225360"/>
            <a:ext cx="423072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286080" y="857160"/>
            <a:ext cx="23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کاشی و سرامی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285840" y="500076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01:48Z</dcterms:modified>
  <cp:revision>44</cp:revision>
  <dc:subject/>
  <dc:title>Slide 1</dc:title>
</cp:coreProperties>
</file>