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FD54-04B1-458E-8914-788BDCB4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8A50-18FF-4661-9825-A7B40E9A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3C80-8AE5-4C5B-9A43-908CC65B9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21B7-29D0-4122-B133-FDF4BA8E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3D6-A16C-411F-965A-039845C4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2B8-9EA9-48D6-BC18-B2A33F0A7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243-D4AA-4C88-959F-6727A97A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6D57-20B4-4D98-9A19-1F70889F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B03-AB18-4A07-868D-11916592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49B1-547C-4AFC-A6AC-E75E51E1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81D0-CA33-4D26-8B4B-BE4503FB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DE2-FD47-48A5-B2AC-FD41DAE4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D24A-F1BD-4816-90AE-F44D00AA381B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ar3.jpg"/>
          <p:cNvPicPr/>
          <p:nvPr/>
        </p:nvPicPr>
        <p:blipFill>
          <a:blip r:embed="rId1"/>
          <a:stretch/>
        </p:blipFill>
        <p:spPr>
          <a:xfrm>
            <a:off x="2151000" y="254160"/>
            <a:ext cx="6350040" cy="6349680"/>
          </a:xfrm>
          <a:prstGeom prst="rect">
            <a:avLst/>
          </a:prstGeom>
          <a:ln w="0">
            <a:noFill/>
          </a:ln>
        </p:spPr>
      </p:pic>
      <p:pic>
        <p:nvPicPr>
          <p:cNvPr id="42" name="Table 4" descr=""/>
          <p:cNvPicPr/>
          <p:nvPr/>
        </p:nvPicPr>
        <p:blipFill>
          <a:blip r:embed="rId2"/>
          <a:stretch/>
        </p:blipFill>
        <p:spPr>
          <a:xfrm>
            <a:off x="712800" y="1352520"/>
            <a:ext cx="7504200" cy="372600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5" descr=""/>
          <p:cNvPicPr/>
          <p:nvPr/>
        </p:nvPicPr>
        <p:blipFill>
          <a:blip r:embed="rId3"/>
          <a:stretch/>
        </p:blipFill>
        <p:spPr>
          <a:xfrm>
            <a:off x="-152280" y="-165240"/>
            <a:ext cx="2322360" cy="2152800"/>
          </a:xfrm>
          <a:prstGeom prst="rect">
            <a:avLst/>
          </a:prstGeom>
          <a:ln w="0">
            <a:noFill/>
          </a:ln>
        </p:spPr>
      </p:pic>
      <p:pic>
        <p:nvPicPr>
          <p:cNvPr id="44" name="TextBox 6" descr=""/>
          <p:cNvPicPr/>
          <p:nvPr/>
        </p:nvPicPr>
        <p:blipFill>
          <a:blip r:embed="rId4"/>
          <a:stretch/>
        </p:blipFill>
        <p:spPr>
          <a:xfrm>
            <a:off x="6456240" y="-165240"/>
            <a:ext cx="2853000" cy="227520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8" descr=""/>
          <p:cNvPicPr/>
          <p:nvPr/>
        </p:nvPicPr>
        <p:blipFill>
          <a:blip r:embed="rId5"/>
          <a:stretch/>
        </p:blipFill>
        <p:spPr>
          <a:xfrm>
            <a:off x="2494080" y="237960"/>
            <a:ext cx="3857400" cy="603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9"/>
          <p:cNvSpPr/>
          <p:nvPr/>
        </p:nvSpPr>
        <p:spPr>
          <a:xfrm>
            <a:off x="3357720" y="85716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17375e"/>
                </a:solidFill>
                <a:latin typeface="Calibri"/>
                <a:cs typeface="B Farnaz"/>
              </a:rPr>
              <a:t>طراحی شده ویژه صنف آهن فروش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10"/>
          <p:cNvSpPr/>
          <p:nvPr/>
        </p:nvSpPr>
        <p:spPr>
          <a:xfrm>
            <a:off x="142920" y="5143680"/>
            <a:ext cx="785808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آدرس : خراسان رضوی، مشهدمقدس ،بلوارشهیددستغیب ،شهیددستغیب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18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،سمت چپ ،سرنبش سه راه ،پلاک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97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،طبقه او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تلفن :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0511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7630374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B Homa"/>
              </a:rPr>
              <a:t>  </a:t>
            </a:r>
            <a:r>
              <a:rPr b="0" lang="fa-IR" sz="9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مدیریت : 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155178075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 </a:t>
            </a:r>
            <a:r>
              <a:rPr b="0" lang="fa-I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3856603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Times New Roman"/>
                <a:cs typeface="B Homa"/>
              </a:rPr>
              <a:t>ایمیل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novin_narmafzar75@yahoo.com</a:t>
            </a:r>
            <a:r>
              <a:rPr b="0" lang="fa-IR" sz="12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آدرس اینترنتی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B Homa"/>
              </a:rPr>
              <a:t>www.novinrayan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B Homa"/>
              </a:rPr>
              <a:t>                                                سفارشات نرم افزار و طراحی سایت پذیرفته می ش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0T08:50:56Z</dcterms:created>
  <dc:creator>a</dc:creator>
  <dc:description/>
  <dc:language>en-US</dc:language>
  <cp:lastModifiedBy>novinrayane</cp:lastModifiedBy>
  <dcterms:modified xsi:type="dcterms:W3CDTF">2013-11-11T06:59:21Z</dcterms:modified>
  <cp:revision>46</cp:revision>
  <dc:subject/>
  <dc:title>Slide 1</dc:title>
</cp:coreProperties>
</file>