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9C0-8E2E-4086-BA2D-CA9C6029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C20-12DB-433C-9332-CE5099D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1B2-FCEE-4048-9C93-F0B6AC4D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D19-C06E-49A4-AFF1-8EF1388E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B04-9C43-4B0F-9A77-A0BBA07A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630-21CD-4A5F-8084-4BDD6649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793-378D-451D-872A-F25706D3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60E-B92C-477F-8994-B853B50F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E5D-68EA-45BC-B53C-BDFE876F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F67-E5B9-468A-BF6D-B9DFC1A4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5C7-6C89-43FD-9FB3-41479999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24B-7581-45E8-9EE6-9C5A9CBD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C801-2A49-4964-91ED-D6D87315C9F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811080"/>
            <a:ext cx="7223400" cy="4761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566720" y="-60480"/>
            <a:ext cx="4510080" cy="614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834640" y="42876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هت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-71280" y="564372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8:28Z</dcterms:modified>
  <cp:revision>39</cp:revision>
  <dc:subject/>
  <dc:title>Slide 1</dc:title>
</cp:coreProperties>
</file>