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B97-CFDA-4CE3-948B-975DA944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74C-3B10-4479-B738-5B9EF03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E5C-92FF-479C-8D1D-4D567E82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2C3-C2AA-41A2-BD90-B017E52E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D28-FAFF-4EA0-97A9-946B476C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38A-66A6-4000-8DFD-A94A7A3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59D-FFD5-4815-931A-5D3B266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F2C-B817-4FC5-A274-5C7E76B5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C66-92E9-4F8D-B350-A3C7343D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17D-74D4-4148-897B-54ED1F4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790-46E9-45E1-8D91-1B15CAD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D58-C005-49BB-967C-24939CA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CFD7-42D1-4FC6-8EEE-8C45DB0B2ED1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639720"/>
            <a:ext cx="7436160" cy="51148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365040" y="-237960"/>
            <a:ext cx="23223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11040"/>
            <a:ext cx="2859120" cy="22730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352520" y="36360"/>
            <a:ext cx="519444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950480" y="35712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درمانگاه و بیمارست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571500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4:23Z</dcterms:modified>
  <cp:revision>49</cp:revision>
  <dc:subject/>
  <dc:title>Slide 1</dc:title>
</cp:coreProperties>
</file>