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A18-6157-4365-BB3B-448D5858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84D-10C0-46A2-B734-9D779E6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100-B4E9-4B27-A13F-DC6B0511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654-5E11-4EE8-BF91-5D8A5166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F79-86FB-4487-A6CA-54F0E5E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6F9-A3C1-46B9-8648-039DD9A7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1C2-2808-423C-B1C4-C2A2CFE6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FEE-EFB5-4ADA-A998-AC4DA604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653-76EA-4714-820E-44EC282D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8B1-E884-484A-BC55-E41F60F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92F-D720-4496-BC13-C401E5EC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F2B-19D1-49ED-8ED2-1AF9B22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07D8-1DAB-45B9-8EE6-3F5C8259379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85920"/>
            <a:ext cx="7223400" cy="39448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494000" y="347760"/>
            <a:ext cx="43765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757960" y="9288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نبار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0" y="5286240"/>
            <a:ext cx="7858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06:54Z</dcterms:modified>
  <cp:revision>38</cp:revision>
  <dc:subject/>
  <dc:title>Slide 1</dc:title>
</cp:coreProperties>
</file>