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262-3F6D-4E00-8798-97D0D537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664F-39FA-4A96-9256-20E885E1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22C-6B85-4582-8D4C-697B6D50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2F7-462D-4E96-9C66-7A792A9C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77B-EA9D-4FF2-8925-A9A923F5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97EE-48C1-4018-A2EB-5414F0B1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E7D9-98EF-4521-8DD6-510ED03F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B0E1-04B2-4EBF-8787-B18C8C8F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16CF-9C70-4495-82CA-059E252D6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8935-BF8D-4635-9AAE-718CD5DB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3E2-72C6-4F16-8B06-1A4B8FB3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145A-0B5A-47C6-A2DF-0A4CD8D32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4F7F-8426-4D88-BC65-DE1679567063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1000080" y="357120"/>
            <a:ext cx="6350040" cy="635004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853920" y="1268280"/>
            <a:ext cx="7223400" cy="39499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1494000" y="274680"/>
            <a:ext cx="4546440" cy="6159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2721240" y="844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اصنا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-71280" y="521496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05:18Z</dcterms:modified>
  <cp:revision>41</cp:revision>
  <dc:subject/>
  <dc:title>Slide 1</dc:title>
</cp:coreProperties>
</file>