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452-520C-4F46-9219-117B4C50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198-264F-4AE5-8113-E97A45FA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1BD-EF69-4D42-8099-9D237AA4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524-C61D-49CC-BF95-36213F0D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8FB-D754-4D97-8C68-844BC417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6F3-06D7-4F36-B7F7-8662DD32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D3E-0640-4A20-8D76-C3279276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7DD-375C-4A60-B8E1-D39428D8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0CD-A189-4B18-BB96-B390264D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C1C-5EAF-4179-88F5-E1C8B79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9C3-DBE5-4174-965A-D48D0B0B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F2C-996C-4F1B-A311-211D732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3C82-A58E-46E6-8C3C-CB534EF97D4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85920"/>
            <a:ext cx="7223400" cy="44384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60680" y="347760"/>
            <a:ext cx="341928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603520" y="9288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تولید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71500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8:05:01Z</dcterms:modified>
  <cp:revision>41</cp:revision>
  <dc:subject/>
  <dc:title>Slide 1</dc:title>
</cp:coreProperties>
</file>