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567-524A-4D6F-956F-A5EAB747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89E-4BD8-461B-BE1A-2FAE8B27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AAF-06D1-469E-8E0E-2861E361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55B-5700-4327-84F0-827B9B6C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9BF-CCE1-426C-8EDA-FE83D0AD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3CA-D01B-4EEB-ADD6-B744636B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CDA-B170-4E13-B36F-2B3415FE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67B-A942-4EA0-9189-4772217A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701-2DEC-4A6A-A63C-3915CD1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780-A243-44E6-80B5-E720D6F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EC3-477E-477B-91E8-D9A0CA1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08B-48AC-49DA-9FEA-8F6529BB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FBB-EFE6-43AA-AD82-05E028A54478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993600"/>
            <a:ext cx="7223400" cy="4437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517840" y="60480"/>
            <a:ext cx="365760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500280" y="5716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پیمانکار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429160"/>
            <a:ext cx="7858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49:40Z</dcterms:modified>
  <cp:revision>38</cp:revision>
  <dc:subject/>
  <dc:title>Slide 1</dc:title>
</cp:coreProperties>
</file>