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2CE-CB30-4BDD-8E6A-9363324D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6F6-98F2-476E-9891-F4548C34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861-D6FF-4FCB-9E1F-F28F4AA5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BFF-37DD-4992-BF60-009F0B56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BDF-F149-4253-9458-8BDE4DFF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482-9CFA-49FE-9FFF-E1184545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70A-8E33-46FE-89B6-9C2A6A7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79F-DEBF-4BAE-AB0F-638002B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C8F-DA96-4C5D-A01C-14853DB3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5F6-7B84-4F6A-9F94-10729C9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F73-3BE2-422C-BDB6-873EA2F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802-5B7D-4749-9751-BC9A0E05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C8D8-B40C-4090-B583-6BF9EEA05C9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517760"/>
            <a:ext cx="7223400" cy="362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779480" y="347760"/>
            <a:ext cx="448164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397600" y="9288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فرش فروش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21496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6:04Z</dcterms:modified>
  <cp:revision>38</cp:revision>
  <dc:subject/>
  <dc:title>Slide 1</dc:title>
</cp:coreProperties>
</file>